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2D1-EEF9-4472-B2F1-8265CABE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6EF-78CC-4E93-B866-9B2DCBC9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037-D31E-4A53-A17B-EE2FBA67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6EF-589C-4CC0-95D9-271E9278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0A2-E94F-456A-BEC0-989F86FD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389-D041-4222-BA73-BCD6239B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37A-DBEC-4113-92E6-1700E0DB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5D4-61C8-47E7-B6FF-3AAA92C9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29D-FB65-4633-818B-FB9DF274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BA8-B3B8-4BA1-A1B3-2827C608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71F-0424-4ED6-AB7F-BB078DB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4D3-3300-44F9-B85A-A15D38A4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DA99-368D-45AE-A0D8-E2D3F78A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Google logo is clean water for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0840" y="914400"/>
            <a:ext cx="872316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 Water For The Worl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52:51Z</dcterms:created>
  <dc:creator>Computer Lab</dc:creator>
  <dc:description/>
  <dc:language>en-US</dc:language>
  <cp:lastModifiedBy>Computer Lab</cp:lastModifiedBy>
  <dcterms:modified xsi:type="dcterms:W3CDTF">2009-03-12T15:41:14Z</dcterms:modified>
  <cp:revision>1</cp:revision>
  <dc:subject/>
  <dc:title>  “Clean Water For The World”</dc:title>
</cp:coreProperties>
</file>